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2EC-66B0-4BDA-AE20-1F230A5D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EBD-8F8A-4A8A-9009-DC6E09D9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323-041E-4653-B8B1-FF8264A3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D43-4B05-48E4-B535-B8F041FC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700-3220-403F-B87C-0691D0E4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3C8-1754-4D21-B5B7-D0345AD3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F43-0904-4285-B0EE-B044B2ED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681-EB70-4C16-808E-4882ED04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26C-AC92-477F-9E39-06F635DE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E55-DD6F-4280-8E0E-87F951C9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ACC1-81C8-4900-95BF-8F06CF20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6766-BB0B-49D9-8686-C4F6AB00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D62D0-A4BF-4E59-A911-FBDF3E5E4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OlmEigVmH9s" TargetMode="External"/><Relationship Id="rId2" Type="http://schemas.openxmlformats.org/officeDocument/2006/relationships/hyperlink" Target="https://www.youtube.com/watch?v=OlmEigVmH9s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los Sl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ree day work 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youtube.com/watch?v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=OlmEigVmH9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82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two main factors that will lead to a change in the way we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should have time _______ and not just at _______ when you 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trade of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ill people do with the extra free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other benefits may come of this propos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1T08:16:51Z</dcterms:created>
  <dc:creator>Paul Filippetto</dc:creator>
  <dc:description/>
  <dc:language>en-US</dc:language>
  <cp:lastModifiedBy>Paul Filippetto</cp:lastModifiedBy>
  <dcterms:modified xsi:type="dcterms:W3CDTF">2014-10-31T08:27:01Z</dcterms:modified>
  <cp:revision>2</cp:revision>
  <dc:subject/>
  <dc:title>Carlos Slim</dc:title>
</cp:coreProperties>
</file>